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5FA-81AE-4C4E-BCF4-5BDBED96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FE4-9F6D-4BA6-827E-B2DBFA7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DD9-70D3-4767-8345-117C5312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705-ACEA-4E8B-83D8-9A472826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4DF55-A689-46D0-9390-E71D9034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C3E1F-2776-4671-8D0F-328FBCAC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0A893-EBDE-4D10-8068-0D7E8574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DD35-124D-4E72-B096-8BC3D3DF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EFFDE-4CDD-44A0-90A3-E39D6A2D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DB117-3E32-4BAB-9C20-490C64AB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60B40-87BE-4E0F-9589-4DA1F09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015-4138-4804-813E-7E6BD48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9CD44-F205-4616-8FB4-8DBE84F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37AA-F025-4E9D-BFE5-474A05A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1C7A3-5A9E-4C72-8564-53BD1BE9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14A1E-6E16-46F3-A64E-C851373D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FDEEB-39F9-4EE1-A909-8885B1F6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BBB-1E8A-464B-BF0E-034D36ED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E02-E031-4530-8CE2-FAA0803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ED9-7CC5-4EEC-A702-8C7EFBF8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2BF-E286-4C06-8D16-A1D6DF21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4E1-7C40-4513-8684-BB567F60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D8A-79FB-4F54-AA75-0830FFB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C22-8214-4067-B5F7-3E418E6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5CC-CAF3-4728-B960-C85F5F1AB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EE27-73F6-4BC2-ADEA-D896E0CA8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r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Kevin Boy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91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like sharks? Read this report and you will se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2233440"/>
            <a:ext cx="3657600" cy="238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want to know how many babies they can have at a time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have 100 babies at a ti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33526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can grow to 45 feet lo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ive world 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3657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 you want to know what they ea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fish, meat, even human fl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5181480"/>
            <a:ext cx="966960" cy="67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181908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105520" y="4800600"/>
            <a:ext cx="1801800" cy="1041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133720" y="5105520"/>
            <a:ext cx="18176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e? Sharks aren’t so bad. They aren’t so bad. These are good animal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4583160" cy="3205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45831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7:01Z</dcterms:modified>
  <cp:revision>3</cp:revision>
  <dc:subject/>
  <dc:title>Animal Name</dc:title>
</cp:coreProperties>
</file>